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72772"/>
        <c:axId val="19918859"/>
      </c:barChart>
      <c:catAx>
        <c:axId val="55972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18859"/>
        <c:crosses val="autoZero"/>
        <c:auto val="1"/>
        <c:lblAlgn val="ctr"/>
        <c:lblOffset val="100"/>
        <c:noMultiLvlLbl val="0"/>
      </c:catAx>
      <c:valAx>
        <c:axId val="19918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72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A26-CE1F-410F-B53E-DAFA2793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D92-F055-45D4-8083-E7E4E4D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014-79E6-4651-958E-7EAF178E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AB5-BFE6-4682-84C2-724DE5BA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C85-2615-4D35-B9AC-A7D2F81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672-D88C-4B03-93F2-8AF87C15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84C-9303-44A2-90E9-6FA32AF0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002-89C1-43F3-AC80-A5BD82B6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FF5-7A16-4CD3-B2EF-5D6F470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119-D642-45E9-A29D-85C5D6F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96E-EF9A-4DAB-88D5-A68B444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B6A-F40E-478C-88A9-35902EC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0039-CD69-49DB-A970-A1EC1BAF63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