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57628"/>
        <c:axId val="76589470"/>
      </c:barChart>
      <c:catAx>
        <c:axId val="58957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89470"/>
        <c:crosses val="autoZero"/>
        <c:auto val="1"/>
        <c:lblAlgn val="ctr"/>
        <c:lblOffset val="100"/>
        <c:noMultiLvlLbl val="0"/>
      </c:catAx>
      <c:valAx>
        <c:axId val="76589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57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60A-988A-42C1-8007-C9E586EB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58C-A051-4FCD-B52B-B2A9D7D1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D3D-D958-49EE-9F7F-2718534B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D12-C612-4619-8EBB-C531E40D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470-20F1-46AA-93CD-38E93260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2E6-49C3-4AC8-8568-AA0C021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36A-83B7-436E-A2C5-A87B341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A14-C8FA-40F1-BC1C-C0682C2D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90D-3C52-47FC-A942-671380E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4A5-570F-4949-99DC-7DC64A1A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EA5-9C53-438B-BF5D-9BF3B14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A06-90E2-48D1-B16D-63AE34CA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B123F-F2D2-4DAE-BE4A-D5545D06B8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