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40693"/>
        <c:axId val="99936209"/>
      </c:barChart>
      <c:catAx>
        <c:axId val="57740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36209"/>
        <c:crosses val="autoZero"/>
        <c:auto val="1"/>
        <c:lblAlgn val="ctr"/>
        <c:lblOffset val="100"/>
        <c:noMultiLvlLbl val="0"/>
      </c:catAx>
      <c:valAx>
        <c:axId val="99936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40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DE6-18D4-4201-BFBA-471E1E24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9C0-D268-4F02-894B-91B9DC7B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BA1-FD30-4F04-8E60-E06C36AD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9F8-59E3-4213-BE30-5C315AB4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C47-82DD-417C-B7F4-0A5BEE99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797-029A-4BCB-913C-7A4FFBEA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747-01F3-4269-A52E-7C9AD4D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D4A-6656-4886-9348-0185950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702-FEDA-422C-B1AE-D6AC4E6B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125-495A-4F97-9D81-8AF4DC6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4DF-C99E-4473-819E-5E916D2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6E8-56D6-4CD8-9980-97CAC26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A55D7-56D5-48CA-BC1B-EFFE9C30D1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