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297090"/>
        <c:axId val="4883548"/>
      </c:barChart>
      <c:catAx>
        <c:axId val="232970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83548"/>
        <c:crosses val="autoZero"/>
        <c:auto val="1"/>
        <c:lblAlgn val="ctr"/>
        <c:lblOffset val="100"/>
        <c:noMultiLvlLbl val="0"/>
      </c:catAx>
      <c:valAx>
        <c:axId val="48835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2970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595E-9D18-468E-A27F-6A7BFC85B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791D-198F-4448-8CE4-0B47A316C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1C82-BD85-4906-B39F-77FA24907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888B-85D4-4550-B7B0-0430B9239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70DA-4BB0-46B9-871D-BA40986EE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E9D7-D232-4AF9-A6F3-26F01F9FA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0383-3CDC-4889-85B2-04705CA9E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DE57-3E72-46E3-BBBE-AE651711C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A74C-5F69-48C7-92CA-46DE0B0CC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9D72-20DC-45BA-9F3F-232D11FF3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18F6-EBDA-428D-BB96-1C760ED2E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E2F7-451E-4388-AEFF-FDD1B04AF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7DF028-B0CD-4B55-8569-E9592B0A709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