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69642"/>
        <c:axId val="10743740"/>
      </c:barChart>
      <c:catAx>
        <c:axId val="65869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3740"/>
        <c:crosses val="autoZero"/>
        <c:auto val="1"/>
        <c:lblAlgn val="ctr"/>
        <c:lblOffset val="100"/>
        <c:noMultiLvlLbl val="0"/>
      </c:catAx>
      <c:valAx>
        <c:axId val="10743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69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0CA-90D6-4674-9474-933A46D9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429-03A2-4DC8-B8B9-0A256AB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F52-45B4-45D1-953D-D247F247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441-C9D4-4B31-BA84-96F5DE9E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A6B-4E6E-4BEB-85B1-3569535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689-4797-4FFF-A701-6FFAB4A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89F-FCB1-4562-84AA-2B2F0606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C39-C5F2-4D57-A783-1C272AD7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2DB-0636-4A0C-9934-D5A35D4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B83-C69A-41D0-B0E3-106D8AD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56C-8650-4DA3-BFF9-D714991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6A7-1C2A-4404-8B16-487C8B2C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30E48-1B9F-482C-8ED9-A49892252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